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390-D730-4E7F-876C-E1748E33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CC6-14A6-4904-A570-F083A86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49C-22BB-4399-976B-3ACC0C92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CE3-22E6-4DA6-8BCE-D19953FC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025-37F2-443B-93D9-24F51D1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FB8-097C-4B36-8D5A-337ABD7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27B-36CD-46EC-9A7E-97746479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E01-98A1-43C0-870F-51532A7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D1E-A969-415E-B85F-B7980FAD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353-90C9-4006-90A6-464C5FF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DEE-A200-4A6B-90F8-52F454C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DAB-95F7-44B4-92A6-EC806CD7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935-BEAF-40E0-873E-24F9F116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mmar Topic 1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oiding Incomplete Sentences (also known as “fragments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800600"/>
            <a:ext cx="8381880" cy="459720"/>
          </a:xfrm>
          <a:prstGeom prst="rect">
            <a:avLst/>
          </a:prstGeom>
          <a:noFill/>
          <a:ln w="54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KE NOTES!  You will be QUIZZED on this materi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-22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ntence is complete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762120"/>
            <a:ext cx="7391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You see a subject and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t expresses a complete thought (you are not left asking a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9568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ject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what/whom the sentence is about 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sually a noun or a pro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6272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erb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plains the action or state of the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895480"/>
            <a:ext cx="8001000" cy="12193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1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bo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an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driv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2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1295280"/>
          <a:ext cx="8686440" cy="5248440"/>
        </p:xfrm>
        <a:graphic>
          <a:graphicData uri="http://schemas.openxmlformats.org/drawingml/2006/table">
            <a:tbl>
              <a:tblPr/>
              <a:tblGrid>
                <a:gridCol w="434304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rag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plete Sent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te pancakes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(missing a subjec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W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ate pancake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 black cat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(missing a verb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 black cat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crossed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our path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nder the desk (missing a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subjec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and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verb!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nder the desk,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h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found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a book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094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Look for the Subject +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for the subject and verb.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ncomplete, fix the sent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Molleur slept through her al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ran up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up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447920"/>
          <a:ext cx="8763120" cy="509112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rag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plete Sent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f  we ate pancakes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(if so, then what?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f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e ate pancakes,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we would be ful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hen a black cat crossed our path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(what happened?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hen a black cat crossed our path,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we shivered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e found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(he found what?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e found a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book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4572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ake sure a complete thought (in other words, it doesn’t leave you asking questions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he sentence does not leave you asking questions.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ncomplete, fix the sent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rgot to re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inishing my homework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ore was ro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running w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sleeping under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ing be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he liked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see “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in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on your papers, it means you have an incomplete sentence (also known as a sentence fragme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3:48:45Z</dcterms:created>
  <dc:creator>Carolynn</dc:creator>
  <dc:description/>
  <dc:language>en-US</dc:language>
  <cp:lastModifiedBy>Carolynn</cp:lastModifiedBy>
  <dcterms:modified xsi:type="dcterms:W3CDTF">2008-08-28T17:38:32Z</dcterms:modified>
  <cp:revision>3</cp:revision>
  <dc:subject/>
  <dc:title>WRITE Now:  (1) Take out a piece of paper to take notes on.  Label it with the date (1/29).  (2) The paragraph below is TERRIBLE.  Find the obvious errors and write corrections in your notes.  (There may be more than one way to correct an error.) </dc:title>
</cp:coreProperties>
</file>